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F78-5D14-49C5-B4D3-A51422D2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D8F-A01D-410C-85CA-185F6BD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04B-8C29-4C90-AB91-61393890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74B-8CCF-4237-BEBB-28057314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750-B19E-47E4-93FE-921DA6E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6FC-00E7-498E-B699-D3326B2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C30-ADAB-41E3-9DC7-607586A0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956-C6F3-4E24-8B51-7F542D6D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951-7C4B-4D09-96E1-D04C8DB5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545-D148-4179-BF41-D9BF0C66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3B5-2AD4-4B03-BA38-D968A536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C82-C56D-4213-A60A-6A8AB5B5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DB23-EBAD-4CF2-824B-FECA53FC0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Opin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812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Tell the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 that has not been properly prepared and cooked may cause salmon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ting on your boyfriend or girlfriend i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Xbox came out before the W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 Mario is one of the greatest video game characters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 milk tastes better than regular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school students are scheduled to attend school more often than students who attend neighborhood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tatements that can be pr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may be tr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acts can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atistically, women live longer than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uses weigh more than most c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en inches in a foot (false)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Opin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re statements that cannot be prove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s can be arg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s may be supported with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s cannot be pr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f is b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is deli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is the hardest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Opinio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sales records, strawberry ice-cream is the worst selling of all flav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we can conclude that strawberry is the least popular major ice-cream fl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strawberry ice-cream does not taste as good as vanilla and choco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whether each example is fact or opin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amily Gu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appropriate to watch during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er panda bears in the world than grizzly b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nking orange juice right after brushing your teeth taste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n Bieber deserved to win the Grammy for best new art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5:31:49Z</dcterms:created>
  <dc:creator>Mr. Morton</dc:creator>
  <dc:description/>
  <dc:language>en-US</dc:language>
  <cp:lastModifiedBy>Computer Tech</cp:lastModifiedBy>
  <dcterms:modified xsi:type="dcterms:W3CDTF">2013-02-13T17:37:11Z</dcterms:modified>
  <cp:revision>5</cp:revision>
  <dc:subject/>
  <dc:title>Fact and Opinion</dc:title>
</cp:coreProperties>
</file>